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whoosh.wav" ContentType="audio/x-wav"/>
  <Override PartName="/ppt/media/drumroll.wav" ContentType="audio/x-wav"/>
  <Override PartName="/ppt/media/type.wav" ContentType="audio/x-wav"/>
  <Override PartName="/ppt/media/chimes.wav" ContentType="audio/x-wav"/>
  <Override PartName="/ppt/media/gunshot.wav" ContentType="audio/x-wav"/>
  <Override PartName="/ppt/media/glass.wav" ContentType="audio/x-wav"/>
  <Override PartName="/ppt/media/camera.wav" ContentType="audio/x-wav"/>
  <Override PartName="/ppt/media/explode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F29-DF32-4AE1-B056-254D6E58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666-8DEC-4B51-8E12-8F0B2A63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7B3-0A38-440A-A905-37F3DD75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A0B-EBDB-4590-8A76-BE74DE32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D54-1104-401F-A1BB-AD202D9A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BF1-913B-4A74-9C35-C81019D1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A4E-ED4E-43B3-BF88-AA3B87D9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A68-571B-4211-990C-027A6F99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420-E426-4373-BBF0-D1AB3945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A0C-A798-460D-8811-B696414C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CB0-07C8-4824-BDB7-924EFF76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6B5-FD2F-4A91-A079-A823F91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CE43-87B6-41E7-9369-EE9249878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gunshot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gunshot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gunshot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gunshot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gunshot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gunshot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gunshot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gunshot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gunshot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gunshot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981000"/>
            <a:ext cx="7704000" cy="376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bolsill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ñar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round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vi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oyfri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e paso por comple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 don’t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guant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371600"/>
            <a:ext cx="784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You understoo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16002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2193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end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i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tend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is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4382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22096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lov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i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lov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3526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3124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im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03848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(all) didn’t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42670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9625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viv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iste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 viv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is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257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they o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4864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5181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r +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 ier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?=</a:t>
            </a:r>
            <a:r>
              <a:rPr b="0" lang="en-GB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br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ier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’s try and work some out!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re’s a reminder of the ending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i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you” s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i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he/she/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im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w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iste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you” pl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-ier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“the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is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inci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l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r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75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8728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Ir (to go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I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is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you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he/she/it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imo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we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iste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you (all)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er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they w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hacer (to do/make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I did/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cis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you did/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z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he/she/it 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cimo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we did/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ciste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you (all) 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cier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they did/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However, most common -er/-ir verbs have irregular stems and have to be learnt by hear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808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ener (to have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I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is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he/she/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im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we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iste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(all)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vier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they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3048120"/>
            <a:ext cx="46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er (to see/watch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I saw/w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s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saw/w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he/she/it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m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we saw/w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ste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(all)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er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they saw/w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4343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er (to be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I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is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he/she/it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im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we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iste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(all)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er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they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3200400"/>
            <a:ext cx="51814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estar (to be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I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is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he/she/it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im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we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iste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you (all)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uvier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they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Preterite (Past) T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form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rst of all let’s look at verbs that end in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-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vis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bu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gun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as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scuch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lis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r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cl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ar (to sp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2743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ese are all shown in the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n take off the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“ar”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 the appropriate ending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gun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scuch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r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21337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1905120"/>
            <a:ext cx="48769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I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aste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you” 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ó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he/she/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am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w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aste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you” pl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ar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the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vis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26668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sita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43434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t +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isit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b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6002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371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r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a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pr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as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209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/She as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4382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2096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gunt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gunt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liste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3526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3124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cuch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amo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scuch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03848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(all) didn’t 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2670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962520"/>
            <a:ext cx="44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err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aste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 cerr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as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2578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they spea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54864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5181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bl +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ar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?=</a:t>
            </a:r>
            <a:r>
              <a:rPr b="0" lang="en-GB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GB" sz="2800" spc="-1" strike="noStrike">
                <a:solidFill>
                  <a:srgbClr val="006600"/>
                </a:solidFill>
                <a:latin typeface="Times New Roman"/>
              </a:rPr>
              <a:t>ar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w let’s look at verbs that end in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–er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 -i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474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b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er (to dri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ten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er (to underst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lov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er (to 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er (to e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ir (to l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b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ir (to op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2708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ese are all shown in the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n we take off the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“er/ir”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 the appropriate ending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981080"/>
            <a:ext cx="259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b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ten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lov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br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21337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1905120"/>
            <a:ext cx="48769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I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iste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you” 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ió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he/she/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im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w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iste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you” pl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Times New Roman"/>
              </a:rPr>
              <a:t>-ier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“the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dra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74320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b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43434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b +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í</a:t>
            </a: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eb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5:03:14Z</dcterms:created>
  <dc:creator>RM</dc:creator>
  <dc:description/>
  <dc:language>en-US</dc:language>
  <cp:lastModifiedBy>Owner1</cp:lastModifiedBy>
  <dcterms:modified xsi:type="dcterms:W3CDTF">2008-09-24T15:54:11Z</dcterms:modified>
  <cp:revision>16</cp:revision>
  <dc:subject/>
  <dc:title>The Future Tense</dc:title>
</cp:coreProperties>
</file>